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6.jpeg" ContentType="image/jpeg"/>
  <Override PartName="/ppt/media/image36.jpeg" ContentType="image/jpeg"/>
  <Override PartName="/ppt/media/image37.jpeg" ContentType="image/jpeg"/>
  <Override PartName="/ppt/media/image50.jpeg" ContentType="image/jpeg"/>
  <Override PartName="/ppt/media/image44.jpeg" ContentType="image/jpeg"/>
  <Override PartName="/ppt/media/image49.jpeg" ContentType="image/jpeg"/>
  <Override PartName="/ppt/media/image20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48.jpeg" ContentType="image/jpeg"/>
  <Override PartName="/ppt/media/image53.png" ContentType="image/pn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6AD-7D93-4943-9E6E-E20D3F31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E1A-8B10-4F6B-A4D9-22FB6B8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57F-906D-46A2-A557-B54AC47E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7D0-F8A9-4DF2-AE22-1041F2AB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D1C-7F1D-49CC-B04D-613D6D3A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1624-FC47-4EB1-B2CD-728F151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B20-4B5E-4EEB-BF8F-F9B9165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29D9-765D-4826-B327-0355C883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E56-A18B-497C-828D-528ABECA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221-13EA-42C9-9DC4-8B2DF6B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B69-CDC2-4F6C-9673-CAC8733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D56-94D1-4FE1-8EFC-A76528C1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C667-BEA3-4242-BF95-1D81EB0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E2B-0A79-4EED-AFED-E924B71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987-DE81-4740-A5D7-BC330C06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A071-0E54-44D7-82A4-B920A1A3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A6F-CC3C-4CA5-95D2-FC30A0BE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2A7-6883-419C-9298-5F937808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4DC-ED45-40BB-97C9-A114516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540-B8BE-4F80-A366-30B66FA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A5B-7746-4558-9D36-D7A6CBE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D48-A0A0-484A-8F48-AC34638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42C-B495-4B63-914B-BF4D0E1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1FF-D897-4421-9C89-768DDEEE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B3C-402E-49A8-A66C-957166D62164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DAF-B78C-4B15-A61B-457A56D003A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92A-B688-4A1E-A126-44B40AA7390E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9FF-7230-4869-9E48-C70CFF72CD6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ip-guide.ru/zk.htm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myppc.ru/uploads/posts/myppc.ru-1258536023_zhukov_maxi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myppc.ru/uploads/posts/myppc.ru-1258536023_zhukov_maxi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6.05.2004/12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6.05.2004/12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skazka.ucoz.ru/_bl/2/76215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skazka.ucoz.ru/_bl/2/76215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allthings.clan.su/Pix/ayvazovsky.jpg.jpg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.ljplus.ru/img4/l/i/lizakelt/Troica-Rubleva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img0.liveinternet.ru/images/attach/c/0/47/42/47042264_18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llthings.clan.su/Pix/ayvazovsky.jpg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g0.liveinternet.ru/images/attach/c/0/47/42/47042264_18.jpg" TargetMode="External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10"/>
          <p:cNvSpPr txBox="1"/>
          <p:nvPr/>
        </p:nvSpPr>
        <p:spPr>
          <a:xfrm>
            <a:off x="826920" y="333360"/>
            <a:ext cx="73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e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- наша Родин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e4a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11" descr="Resize of Карта России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15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wbr"/>
          <p:cNvPicPr/>
          <p:nvPr/>
        </p:nvPicPr>
        <p:blipFill>
          <a:blip r:embed="rId2"/>
          <a:stretch/>
        </p:blipFill>
        <p:spPr>
          <a:xfrm>
            <a:off x="2340000" y="5850000"/>
            <a:ext cx="151272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3"/>
          <p:cNvSpPr txBox="1"/>
          <p:nvPr/>
        </p:nvSpPr>
        <p:spPr>
          <a:xfrm>
            <a:off x="755640" y="260280"/>
            <a:ext cx="73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- наша Род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intro.mpg" descr=""/>
          <p:cNvPicPr/>
          <p:nvPr/>
        </p:nvPicPr>
        <p:blipFill>
          <a:blip r:embed="rId3"/>
          <a:stretch/>
        </p:blipFill>
        <p:spPr>
          <a:xfrm>
            <a:off x="8459640" y="6345360"/>
            <a:ext cx="684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6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2">
                                  <p:stCondLst>
                                    <p:cond delay="20000"/>
                                  </p:stCondLst>
                                  <p:childTnLst>
                                    <p:cmd type="call" cmd="togglePause">
                                      <p:cBhvr>
                                        <p:cTn id="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1835280" y="1125360"/>
            <a:ext cx="39589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имн РФ"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14240" y="1643040"/>
            <a:ext cx="5572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оссия — священная наша держа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оссия — любимая наша стра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Могучая воля, великая слава —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Твое достоянье на все времен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пев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лавься, Отечество наше свобод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ратских народов союз веков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Предками данная мудрость народная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лавься, страна! Мы гордимся тобой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От южных морей до полярного кр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Раскинулись наши леса и по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Одна ты на свете! Одна ты такая —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Хранимая Богом родная зем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Широкий простор для мечты и для жиз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Грядущие нам открывают г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Нам силу дает наша верность Отчиз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01"/>
                </a:solidFill>
                <a:latin typeface="Times New Roman"/>
              </a:rPr>
              <a:t>Так было, так есть и так будет всег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250920" y="18900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001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940360" y="1700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f01"/>
                </a:solidFill>
                <a:latin typeface="Times New Roman"/>
              </a:rPr>
              <a:t>Муз. А.Александ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f01"/>
                </a:solidFill>
                <a:latin typeface="Times New Roman"/>
              </a:rPr>
              <a:t>Слова С.Михалков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63640" y="18900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История гимн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gimn_-_gimn_rossii_so_slovami_(zaycev.net).mp3" descr=""/>
          <p:cNvPicPr/>
          <p:nvPr/>
        </p:nvPicPr>
        <p:blipFill>
          <a:blip r:embed="rId3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096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316800"/>
            <a:ext cx="8678880" cy="72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ссия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               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Родина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Столица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Президент-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выборный 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Государственные символы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Культурные традиции – богатство нашей многонациональной страны</a:t>
            </a:r>
            <a:r>
              <a:rPr b="0" lang="ru-RU" sz="20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6" descr="wbr"/>
          <p:cNvPicPr/>
          <p:nvPr/>
        </p:nvPicPr>
        <p:blipFill>
          <a:blip r:embed="rId1"/>
          <a:stretch/>
        </p:blipFill>
        <p:spPr>
          <a:xfrm>
            <a:off x="5929200" y="4357800"/>
            <a:ext cx="1366920" cy="91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rusgerb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58080" y="4357800"/>
            <a:ext cx="781200" cy="934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56" name="Picture 8" descr="ppic20_2"/>
          <p:cNvPicPr/>
          <p:nvPr/>
        </p:nvPicPr>
        <p:blipFill>
          <a:blip r:embed="rId3"/>
          <a:stretch/>
        </p:blipFill>
        <p:spPr>
          <a:xfrm>
            <a:off x="2643120" y="1428840"/>
            <a:ext cx="113976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P49_36m"/>
          <p:cNvPicPr/>
          <p:nvPr/>
        </p:nvPicPr>
        <p:blipFill>
          <a:blip r:embed="rId4"/>
          <a:stretch/>
        </p:blipFill>
        <p:spPr>
          <a:xfrm>
            <a:off x="6500880" y="357120"/>
            <a:ext cx="2387520" cy="1785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Resize of Карта России"/>
          <p:cNvPicPr/>
          <p:nvPr/>
        </p:nvPicPr>
        <p:blipFill>
          <a:blip r:embed="rId5"/>
          <a:stretch/>
        </p:blipFill>
        <p:spPr>
          <a:xfrm>
            <a:off x="2214720" y="285840"/>
            <a:ext cx="1985760" cy="1071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putin3.jpg"/>
          <p:cNvPicPr/>
          <p:nvPr/>
        </p:nvPicPr>
        <p:blipFill>
          <a:blip r:embed="rId6"/>
          <a:stretch/>
        </p:blipFill>
        <p:spPr>
          <a:xfrm>
            <a:off x="7358040" y="2428920"/>
            <a:ext cx="135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50920" y="356760"/>
            <a:ext cx="8642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врей и тувинец, бурят и удмурт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усский, татарин, башкир и якут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ных народов большая семья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этим гордиться должны мы,  друзь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ссией зовется общий наш до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усть будет уютно каждому в нё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юбые трудности мы осилим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только в единстве сила Росс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Дата 3"/>
          <p:cNvSpPr/>
          <p:nvPr/>
        </p:nvSpPr>
        <p:spPr>
          <a:xfrm>
            <a:off x="457200" y="6215040"/>
            <a:ext cx="2133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0F37-01AD-41AC-BC88-97A9855AF54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8" descr="фото | Олег Иванов | Оленевод Бельдые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3"/>
          <a:stretch/>
        </p:blipFill>
        <p:spPr>
          <a:xfrm>
            <a:off x="5587920" y="285840"/>
            <a:ext cx="3556080" cy="330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learning\Рабочий стол\Одежда\64[1].jpg"/>
          <p:cNvPicPr/>
          <p:nvPr/>
        </p:nvPicPr>
        <p:blipFill>
          <a:blip r:embed="rId4"/>
          <a:stretch/>
        </p:blipFill>
        <p:spPr>
          <a:xfrm>
            <a:off x="6215040" y="4071960"/>
            <a:ext cx="2928960" cy="254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learning\Рабочий стол\Одежда\gallery_76_7668[1].jpg"/>
          <p:cNvPicPr/>
          <p:nvPr/>
        </p:nvPicPr>
        <p:blipFill>
          <a:blip r:embed="rId5"/>
          <a:stretch/>
        </p:blipFill>
        <p:spPr>
          <a:xfrm>
            <a:off x="1000080" y="285840"/>
            <a:ext cx="35006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learning\Рабочий стол\Одежда\0_69a4_2f103836_XL[1].jpg"/>
          <p:cNvPicPr/>
          <p:nvPr/>
        </p:nvPicPr>
        <p:blipFill>
          <a:blip r:embed="rId1"/>
          <a:stretch/>
        </p:blipFill>
        <p:spPr>
          <a:xfrm>
            <a:off x="21420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earning\Рабочий стол\Одежда\304_33[1].jpg"/>
          <p:cNvPicPr/>
          <p:nvPr/>
        </p:nvPicPr>
        <p:blipFill>
          <a:blip r:embed="rId2"/>
          <a:stretch/>
        </p:blipFill>
        <p:spPr>
          <a:xfrm>
            <a:off x="214200" y="3211560"/>
            <a:ext cx="2428920" cy="364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earning\Рабочий стол\Одежда\304_35[1].jpg"/>
          <p:cNvPicPr/>
          <p:nvPr/>
        </p:nvPicPr>
        <p:blipFill>
          <a:blip r:embed="rId3"/>
          <a:stretch/>
        </p:blipFill>
        <p:spPr>
          <a:xfrm>
            <a:off x="6215040" y="214200"/>
            <a:ext cx="2714760" cy="407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Documents and Settings\learning\Рабочий стол\Одежда\ce470e8b2221[1].jpg"/>
          <p:cNvPicPr/>
          <p:nvPr/>
        </p:nvPicPr>
        <p:blipFill>
          <a:blip r:embed="rId4"/>
          <a:stretch/>
        </p:blipFill>
        <p:spPr>
          <a:xfrm>
            <a:off x="4608360" y="3714840"/>
            <a:ext cx="4321440" cy="2882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:\Documents and Settings\learning\Рабочий стол\Одежда\publication_2546_5425[1].jpg"/>
          <p:cNvPicPr/>
          <p:nvPr/>
        </p:nvPicPr>
        <p:blipFill>
          <a:blip r:embed="rId5"/>
          <a:stretch/>
        </p:blipFill>
        <p:spPr>
          <a:xfrm>
            <a:off x="2214720" y="3143160"/>
            <a:ext cx="2543040" cy="2855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learning\Рабочий стол\Одежда\imgB[1].jpg"/>
          <p:cNvPicPr/>
          <p:nvPr/>
        </p:nvPicPr>
        <p:blipFill>
          <a:blip r:embed="rId6"/>
          <a:stretch/>
        </p:blipFill>
        <p:spPr>
          <a:xfrm>
            <a:off x="4429080" y="571680"/>
            <a:ext cx="17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Как называется страна, в которой мы жив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Кто является главой нашего государств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Покажите на карте Россию. Что вы можете сказать о ее территории, какие  народы живут  на территории России? Какие города вам известны? Назовите столицу Росс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Чем интересна и уникальна наша Роди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А где ты родил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826920" y="692280"/>
            <a:ext cx="741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им на 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5"/>
          <p:cNvSpPr txBox="1"/>
          <p:nvPr/>
        </p:nvSpPr>
        <p:spPr>
          <a:xfrm>
            <a:off x="971640" y="549360"/>
            <a:ext cx="705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Monotype Corsiva"/>
              </a:rPr>
              <a:t>Словар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Родина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род, народ, родные, родители, рождение, родился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Россия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могущественное госуда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резидент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- выборный глава государ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Отечество - 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</a:rPr>
              <a:t>обозначает страна предков (отцов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Ассоциограмма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(ассоциация) – схема, в основе которой лежат ассоци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атриот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- человек, преданный своему народу, Отечеств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Любовь –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великое чув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Гордость – 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сильное чувство, которое испытывает патриот по отношению к своей Ро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Культурные традиции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– это богатство нашей многонациональной стра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826920" y="47628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16988-1"/>
          <p:cNvPicPr/>
          <p:nvPr/>
        </p:nvPicPr>
        <p:blipFill>
          <a:blip r:embed="rId3"/>
          <a:stretch/>
        </p:blipFill>
        <p:spPr>
          <a:xfrm>
            <a:off x="684360" y="2060640"/>
            <a:ext cx="2336760" cy="374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8" descr="i?id=20621596-06"/>
          <p:cNvPicPr/>
          <p:nvPr/>
        </p:nvPicPr>
        <p:blipFill>
          <a:blip r:embed="rId4"/>
          <a:stretch/>
        </p:blipFill>
        <p:spPr>
          <a:xfrm>
            <a:off x="6084720" y="2276640"/>
            <a:ext cx="2846520" cy="33350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10" descr="Картинка 3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2205000"/>
            <a:ext cx="2500200" cy="3598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826920" y="47628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6" descr="16988-1"/>
          <p:cNvPicPr/>
          <p:nvPr/>
        </p:nvPicPr>
        <p:blipFill>
          <a:blip r:embed="rId3"/>
          <a:stretch/>
        </p:blipFill>
        <p:spPr>
          <a:xfrm>
            <a:off x="250920" y="1197000"/>
            <a:ext cx="2643120" cy="4236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8" descr="i?id=20621596-06"/>
          <p:cNvPicPr/>
          <p:nvPr/>
        </p:nvPicPr>
        <p:blipFill>
          <a:blip r:embed="rId4"/>
          <a:stretch/>
        </p:blipFill>
        <p:spPr>
          <a:xfrm>
            <a:off x="6072120" y="1357200"/>
            <a:ext cx="2846520" cy="3335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0" descr="Картинка 3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86080" y="1214280"/>
            <a:ext cx="250020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2"/>
          <p:cNvSpPr/>
          <p:nvPr/>
        </p:nvSpPr>
        <p:spPr>
          <a:xfrm>
            <a:off x="357120" y="54291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уворов Александр Васи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357720" y="521496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уков Георгий Константино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6143760" y="50720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утузов Михаил Илларионо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75324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1" descr="Картинка 35 из 2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2841480" cy="3508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2" descr="0_67ce_ff6857dc_XL"/>
          <p:cNvPicPr/>
          <p:nvPr/>
        </p:nvPicPr>
        <p:blipFill>
          <a:blip r:embed="rId3"/>
          <a:stretch/>
        </p:blipFill>
        <p:spPr>
          <a:xfrm>
            <a:off x="3571920" y="1500120"/>
            <a:ext cx="2403360" cy="3357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126053078117977"/>
          <p:cNvPicPr/>
          <p:nvPr/>
        </p:nvPicPr>
        <p:blipFill>
          <a:blip r:embed="rId4"/>
          <a:stretch/>
        </p:blipFill>
        <p:spPr>
          <a:xfrm>
            <a:off x="6429240" y="1428840"/>
            <a:ext cx="2327400" cy="3500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ссия – наша Роди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632720" cy="53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ссия –какое красивое слово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оса, и сила, и синее что-то…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1, стр. 4-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Picture 1" descr="Картинка 35 из 2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2841480" cy="3508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2" descr="0_67ce_ff6857dc_XL"/>
          <p:cNvPicPr/>
          <p:nvPr/>
        </p:nvPicPr>
        <p:blipFill>
          <a:blip r:embed="rId3"/>
          <a:stretch/>
        </p:blipFill>
        <p:spPr>
          <a:xfrm>
            <a:off x="3571920" y="1500120"/>
            <a:ext cx="2403360" cy="3357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126053078117977"/>
          <p:cNvPicPr/>
          <p:nvPr/>
        </p:nvPicPr>
        <p:blipFill>
          <a:blip r:embed="rId4"/>
          <a:stretch/>
        </p:blipFill>
        <p:spPr>
          <a:xfrm>
            <a:off x="6429240" y="1428840"/>
            <a:ext cx="2327400" cy="3500280"/>
          </a:xfrm>
          <a:prstGeom prst="rect">
            <a:avLst/>
          </a:prstGeom>
          <a:ln w="0">
            <a:noFill/>
          </a:ln>
        </p:spPr>
      </p:pic>
      <p:sp>
        <p:nvSpPr>
          <p:cNvPr id="209" name="Заголовок 1"/>
          <p:cNvSpPr/>
          <p:nvPr/>
        </p:nvSpPr>
        <p:spPr>
          <a:xfrm>
            <a:off x="6143760" y="5357880"/>
            <a:ext cx="2714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митр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андрович Хворосто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3500280" y="542916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андр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Николаевна Пахмут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84360" y="53006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ёт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льич Чайко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Picture 2" descr="astafev"/>
          <p:cNvPicPr/>
          <p:nvPr/>
        </p:nvPicPr>
        <p:blipFill>
          <a:blip r:embed="rId1"/>
          <a:stretch/>
        </p:blipFill>
        <p:spPr>
          <a:xfrm>
            <a:off x="6810480" y="1285920"/>
            <a:ext cx="2333520" cy="314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180"/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320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4" descr="Картинка 1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1071720"/>
            <a:ext cx="2498400" cy="378612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3357720" y="5214960"/>
            <a:ext cx="314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2" descr="astafev"/>
          <p:cNvPicPr/>
          <p:nvPr/>
        </p:nvPicPr>
        <p:blipFill>
          <a:blip r:embed="rId1"/>
          <a:stretch/>
        </p:blipFill>
        <p:spPr>
          <a:xfrm>
            <a:off x="6810480" y="1285920"/>
            <a:ext cx="2333520" cy="314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180"/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3209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4" descr="Картинка 1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1071720"/>
            <a:ext cx="2498400" cy="378612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3357720" y="5214960"/>
            <a:ext cx="314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3571920" y="507204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амуил Яковлевич Марш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6500880" y="500076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иктор Петрович Астафь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06080" y="5332320"/>
            <a:ext cx="25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гния Львовн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Бар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209213057_avtoportret"/>
          <p:cNvPicPr/>
          <p:nvPr/>
        </p:nvPicPr>
        <p:blipFill>
          <a:blip r:embed="rId1"/>
          <a:stretch/>
        </p:blipFill>
        <p:spPr>
          <a:xfrm>
            <a:off x="6932520" y="333360"/>
            <a:ext cx="1841760" cy="237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Картинка 9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236680" cy="3117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Картинка 36 из 44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Андрей Рублев"/>
          <p:cNvPicPr/>
          <p:nvPr/>
        </p:nvPicPr>
        <p:blipFill>
          <a:blip r:embed="rId6"/>
          <a:stretch/>
        </p:blipFill>
        <p:spPr>
          <a:xfrm>
            <a:off x="539640" y="4005360"/>
            <a:ext cx="1905120" cy="2342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Картинка 6 из 5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16360" y="4076640"/>
            <a:ext cx="3565440" cy="2495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?id=22995519-06"/>
          <p:cNvPicPr/>
          <p:nvPr/>
        </p:nvPicPr>
        <p:blipFill>
          <a:blip r:embed="rId9"/>
          <a:stretch/>
        </p:blipFill>
        <p:spPr>
          <a:xfrm>
            <a:off x="3348000" y="907920"/>
            <a:ext cx="3300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C:\Users\Егор\Desktop\surikov05.jpg"/>
          <p:cNvPicPr/>
          <p:nvPr/>
        </p:nvPicPr>
        <p:blipFill>
          <a:blip r:embed="rId1"/>
          <a:stretch/>
        </p:blipFill>
        <p:spPr>
          <a:xfrm>
            <a:off x="0" y="1773360"/>
            <a:ext cx="7186680" cy="3714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684360" y="5661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силий Иванович Суриков «Взятие снежного город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" descr="1209213057_avtoportret"/>
          <p:cNvPicPr/>
          <p:nvPr/>
        </p:nvPicPr>
        <p:blipFill>
          <a:blip r:embed="rId2"/>
          <a:stretch/>
        </p:blipFill>
        <p:spPr>
          <a:xfrm>
            <a:off x="6858000" y="214200"/>
            <a:ext cx="2049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1" descr="Картинка 9 из 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49480"/>
            <a:ext cx="2249640" cy="3136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3" descr="Картинка 6 из 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9640" y="1268280"/>
            <a:ext cx="5994360" cy="4683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1"/>
          <p:cNvSpPr/>
          <p:nvPr/>
        </p:nvSpPr>
        <p:spPr>
          <a:xfrm>
            <a:off x="2513160" y="5979960"/>
            <a:ext cx="60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йвазовский Иван Константинович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«Девятый вал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F34-627A-4C80-A364-E5998B853C5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" descr="Картинка 36 из 446"/>
          <p:cNvPicPr/>
          <p:nvPr/>
        </p:nvPicPr>
        <p:blipFill>
          <a:blip r:embed="rId1"/>
          <a:stretch/>
        </p:blipFill>
        <p:spPr>
          <a:xfrm>
            <a:off x="611280" y="1341360"/>
            <a:ext cx="4186080" cy="5184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3" descr="Андрей Рублев"/>
          <p:cNvPicPr/>
          <p:nvPr/>
        </p:nvPicPr>
        <p:blipFill>
          <a:blip r:embed="rId2"/>
          <a:stretch/>
        </p:blipFill>
        <p:spPr>
          <a:xfrm>
            <a:off x="5580000" y="1484280"/>
            <a:ext cx="3279960" cy="4033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796000" y="602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дрей Рубл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Picture 1" descr="Картинка 5 из 133"/>
          <p:cNvPicPr/>
          <p:nvPr/>
        </p:nvPicPr>
        <p:blipFill>
          <a:blip r:embed="rId1"/>
          <a:stretch/>
        </p:blipFill>
        <p:spPr>
          <a:xfrm>
            <a:off x="3564000" y="1628640"/>
            <a:ext cx="2411280" cy="3016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i?id=49560045-07"/>
          <p:cNvPicPr/>
          <p:nvPr/>
        </p:nvPicPr>
        <p:blipFill>
          <a:blip r:embed="rId2"/>
          <a:stretch/>
        </p:blipFill>
        <p:spPr>
          <a:xfrm>
            <a:off x="755640" y="1700280"/>
            <a:ext cx="21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i?id=87058394-00"/>
          <p:cNvPicPr/>
          <p:nvPr/>
        </p:nvPicPr>
        <p:blipFill>
          <a:blip r:embed="rId3"/>
          <a:stretch/>
        </p:blipFill>
        <p:spPr>
          <a:xfrm>
            <a:off x="6659640" y="1700280"/>
            <a:ext cx="2066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Picture 1" descr="Картинка 5 из 133"/>
          <p:cNvPicPr/>
          <p:nvPr/>
        </p:nvPicPr>
        <p:blipFill>
          <a:blip r:embed="rId1"/>
          <a:stretch/>
        </p:blipFill>
        <p:spPr>
          <a:xfrm>
            <a:off x="3500280" y="1214280"/>
            <a:ext cx="2411640" cy="301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i?id=49560045-07"/>
          <p:cNvPicPr/>
          <p:nvPr/>
        </p:nvPicPr>
        <p:blipFill>
          <a:blip r:embed="rId2"/>
          <a:stretch/>
        </p:blipFill>
        <p:spPr>
          <a:xfrm>
            <a:off x="500040" y="1214280"/>
            <a:ext cx="21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i?id=87058394-00"/>
          <p:cNvPicPr/>
          <p:nvPr/>
        </p:nvPicPr>
        <p:blipFill>
          <a:blip r:embed="rId3"/>
          <a:stretch/>
        </p:blipFill>
        <p:spPr>
          <a:xfrm>
            <a:off x="6715080" y="1214280"/>
            <a:ext cx="2067120" cy="300060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3571920" y="4857840"/>
            <a:ext cx="2295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ей Архипович  Лео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6572160" y="4857840"/>
            <a:ext cx="235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алентина Владимировна Терешк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39640" y="4869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Юр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Алексеевич Гага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340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" descr="Картинка 2 из 43"/>
          <p:cNvPicPr/>
          <p:nvPr/>
        </p:nvPicPr>
        <p:blipFill>
          <a:blip r:embed="rId1"/>
          <a:stretch/>
        </p:blipFill>
        <p:spPr>
          <a:xfrm>
            <a:off x="395280" y="1268280"/>
            <a:ext cx="2500200" cy="3413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Картинка 10 из 888"/>
          <p:cNvPicPr/>
          <p:nvPr/>
        </p:nvPicPr>
        <p:blipFill>
          <a:blip r:embed="rId2"/>
          <a:stretch/>
        </p:blipFill>
        <p:spPr>
          <a:xfrm>
            <a:off x="2987640" y="1700280"/>
            <a:ext cx="2722680" cy="2786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4" descr="i?id=45630332-00"/>
          <p:cNvPicPr/>
          <p:nvPr/>
        </p:nvPicPr>
        <p:blipFill>
          <a:blip r:embed="rId3"/>
          <a:stretch/>
        </p:blipFill>
        <p:spPr>
          <a:xfrm>
            <a:off x="6602400" y="3141720"/>
            <a:ext cx="1909800" cy="2735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6" descr="ue_3"/>
          <p:cNvPicPr/>
          <p:nvPr/>
        </p:nvPicPr>
        <p:blipFill>
          <a:blip r:embed="rId4"/>
          <a:stretch/>
        </p:blipFill>
        <p:spPr>
          <a:xfrm>
            <a:off x="5651640" y="0"/>
            <a:ext cx="3314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99760" cy="117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182600" y="2098440"/>
            <a:ext cx="7461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духовный мир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культурные традиции и для чего они существу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16360" y="-360"/>
            <a:ext cx="282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триоты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Дата 3"/>
          <p:cNvSpPr/>
          <p:nvPr/>
        </p:nvSpPr>
        <p:spPr>
          <a:xfrm>
            <a:off x="457200" y="600084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1" descr="Картинка 2 из 43"/>
          <p:cNvPicPr/>
          <p:nvPr/>
        </p:nvPicPr>
        <p:blipFill>
          <a:blip r:embed="rId1"/>
          <a:stretch/>
        </p:blipFill>
        <p:spPr>
          <a:xfrm>
            <a:off x="395280" y="907920"/>
            <a:ext cx="2500200" cy="3413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Картинка 10 из 888"/>
          <p:cNvPicPr/>
          <p:nvPr/>
        </p:nvPicPr>
        <p:blipFill>
          <a:blip r:embed="rId2"/>
          <a:stretch/>
        </p:blipFill>
        <p:spPr>
          <a:xfrm>
            <a:off x="2987640" y="1413000"/>
            <a:ext cx="2722680" cy="27860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4" descr="i?id=45630332-00"/>
          <p:cNvPicPr/>
          <p:nvPr/>
        </p:nvPicPr>
        <p:blipFill>
          <a:blip r:embed="rId3"/>
          <a:stretch/>
        </p:blipFill>
        <p:spPr>
          <a:xfrm>
            <a:off x="6602400" y="3141720"/>
            <a:ext cx="1909800" cy="2735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6" descr="ue_3"/>
          <p:cNvPicPr/>
          <p:nvPr/>
        </p:nvPicPr>
        <p:blipFill>
          <a:blip r:embed="rId4"/>
          <a:stretch/>
        </p:blipFill>
        <p:spPr>
          <a:xfrm>
            <a:off x="5651640" y="0"/>
            <a:ext cx="3314520" cy="2857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1"/>
          <p:cNvSpPr/>
          <p:nvPr/>
        </p:nvSpPr>
        <p:spPr>
          <a:xfrm>
            <a:off x="266760" y="4498920"/>
            <a:ext cx="22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атолий Евгеньевич Карп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987640" y="42210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рина Роднина и Александр Зайц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641200" y="27590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вгений Устю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6443640" y="611352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вгений Плющ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оссия – наша Род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духовный мир челове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культурные традиции и для чего они существуют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BF7-2417-4650-9829-300079B5D79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971640" y="0"/>
            <a:ext cx="720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1280" y="476280"/>
            <a:ext cx="770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Проведи интервью с родителями по вопросам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х героев России они знают, в чем их заслуги перед Отечество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х русских писателей, художников, композиторов они знают, чем они знаменит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Какие книги о нашей Родине они посоветовали бы тебе прочита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Monotype Corsiva"/>
              </a:rPr>
              <a:t>Есть ли среди ваших родственников те, кто много сделал для Родины? Кто это, в чем их заслуги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Monotype Corsiva"/>
              </a:rPr>
              <a:t>Или найди материал об известном человеке (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по выбору). Подготовь рассказ о нем. Объясни, почему ты выбрал именно этого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6BF4-0D68-441A-AB37-F45C0151CE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Родина.wmv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9760" cy="6323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Documents and Settings\library3\Рабочий стол\проект\И.А\Minin-i-Pozharskij-.bmp"/>
          <p:cNvPicPr/>
          <p:nvPr/>
        </p:nvPicPr>
        <p:blipFill>
          <a:blip r:embed="rId2"/>
          <a:stretch/>
        </p:blipFill>
        <p:spPr>
          <a:xfrm>
            <a:off x="2351160" y="214200"/>
            <a:ext cx="45068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ак стать таким, чтобы Родина гордилась тобой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296560" cy="142740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3"/>
          <p:cNvSpPr/>
          <p:nvPr/>
        </p:nvSpPr>
        <p:spPr>
          <a:xfrm>
            <a:off x="3571920" y="3500280"/>
            <a:ext cx="2143080" cy="986040"/>
          </a:xfrm>
          <a:prstGeom prst="ellipse">
            <a:avLst/>
          </a:prstGeom>
          <a:solidFill>
            <a:srgbClr val="cc33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3714840" y="1928880"/>
            <a:ext cx="1643040" cy="857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-друзь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714840" y="4929120"/>
            <a:ext cx="1643040" cy="928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-вра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1143000" y="2214720"/>
            <a:ext cx="1785960" cy="1071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7"/>
          <p:cNvSpPr/>
          <p:nvPr/>
        </p:nvSpPr>
        <p:spPr>
          <a:xfrm>
            <a:off x="1000080" y="4214880"/>
            <a:ext cx="1857600" cy="107316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фориз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Скругленный прямоугольник 8"/>
          <p:cNvSpPr/>
          <p:nvPr/>
        </p:nvSpPr>
        <p:spPr>
          <a:xfrm>
            <a:off x="6286680" y="2143080"/>
            <a:ext cx="1857240" cy="1000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нездо сл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ый прямоугольник 9"/>
          <p:cNvSpPr/>
          <p:nvPr/>
        </p:nvSpPr>
        <p:spPr>
          <a:xfrm>
            <a:off x="6286680" y="4214880"/>
            <a:ext cx="1928520" cy="947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рагменты тек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572000" y="2852280"/>
            <a:ext cx="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 flipH="1" flipV="1">
            <a:off x="2843280" y="3284280"/>
            <a:ext cx="100800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5508720" y="3141720"/>
            <a:ext cx="86364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3"/>
          <p:cNvSpPr/>
          <p:nvPr/>
        </p:nvSpPr>
        <p:spPr>
          <a:xfrm flipH="1">
            <a:off x="2843280" y="4149720"/>
            <a:ext cx="720720" cy="57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5580000" y="4221000"/>
            <a:ext cx="64764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4572000" y="4581360"/>
            <a:ext cx="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нездо слов «Родина»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ели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ьс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енники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ч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чальник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нький, по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ься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ы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ие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тв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твенский,  з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ие, н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ый,  при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вый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а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вная, з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ш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EC9-2AF6-4693-8507-78868A3FB26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187280" y="1773360"/>
            <a:ext cx="7488360" cy="4679640"/>
            <a:chOff x="1187280" y="1773360"/>
            <a:chExt cx="7488360" cy="4679640"/>
          </a:xfrm>
        </p:grpSpPr>
        <p:sp>
          <p:nvSpPr>
            <p:cNvPr id="126" name="Rectangle 3"/>
            <p:cNvSpPr/>
            <p:nvPr/>
          </p:nvSpPr>
          <p:spPr>
            <a:xfrm>
              <a:off x="1187280" y="1773360"/>
              <a:ext cx="7488360" cy="155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1187280" y="3342600"/>
              <a:ext cx="7488360" cy="1541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1187280" y="4893480"/>
              <a:ext cx="7488360" cy="155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9" name="Picture 6" descr="coa1882"/>
          <p:cNvPicPr/>
          <p:nvPr/>
        </p:nvPicPr>
        <p:blipFill>
          <a:blip r:embed="rId1"/>
          <a:stretch/>
        </p:blipFill>
        <p:spPr>
          <a:xfrm>
            <a:off x="7518240" y="1557360"/>
            <a:ext cx="1249560" cy="13669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30" name="Picture 7" descr="rusgerb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812000" y="5373720"/>
            <a:ext cx="1079640" cy="1295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8" descr="moscow2"/>
          <p:cNvPicPr/>
          <p:nvPr/>
        </p:nvPicPr>
        <p:blipFill>
          <a:blip r:embed="rId3"/>
          <a:stretch/>
        </p:blipFill>
        <p:spPr>
          <a:xfrm>
            <a:off x="539640" y="1484280"/>
            <a:ext cx="1330560" cy="16574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9"/>
          <p:cNvSpPr txBox="1"/>
          <p:nvPr/>
        </p:nvSpPr>
        <p:spPr>
          <a:xfrm>
            <a:off x="3203640" y="2421000"/>
            <a:ext cx="2663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ГЕРБ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3203640" y="4005360"/>
            <a:ext cx="2663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ФЛАГ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11"/>
          <p:cNvSpPr txBox="1"/>
          <p:nvPr/>
        </p:nvSpPr>
        <p:spPr>
          <a:xfrm>
            <a:off x="3203640" y="5661000"/>
            <a:ext cx="26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"/>
              </a:rPr>
              <a:t>ГИМН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5" name="Picture 12" descr="ussr"/>
          <p:cNvPicPr/>
          <p:nvPr/>
        </p:nvPicPr>
        <p:blipFill>
          <a:blip r:embed="rId4"/>
          <a:stretch/>
        </p:blipFill>
        <p:spPr>
          <a:xfrm>
            <a:off x="466560" y="5157720"/>
            <a:ext cx="1325880" cy="1366920"/>
          </a:xfrm>
          <a:prstGeom prst="rect">
            <a:avLst/>
          </a:prstGeom>
          <a:ln w="76320">
            <a:solidFill>
              <a:srgbClr val="ffcf01"/>
            </a:solidFill>
            <a:miter/>
          </a:ln>
        </p:spPr>
      </p:pic>
      <p:sp>
        <p:nvSpPr>
          <p:cNvPr id="136" name="Rectangle 14"/>
          <p:cNvSpPr/>
          <p:nvPr/>
        </p:nvSpPr>
        <p:spPr>
          <a:xfrm>
            <a:off x="395280" y="2570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Государственные символы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AAF-91FF-43A1-8490-0F4599BB838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rusgerb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00040" y="1214280"/>
            <a:ext cx="4443480" cy="5327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9" name="Rectangle 6"/>
          <p:cNvSpPr/>
          <p:nvPr/>
        </p:nvSpPr>
        <p:spPr>
          <a:xfrm>
            <a:off x="5786280" y="1643040"/>
            <a:ext cx="2808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«Двуглавый орел с гербом Москвы на груд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имволизирует преемственность со славным историческим прошлым, величие государ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63640" y="189000"/>
            <a:ext cx="592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Современный гер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wbr"/>
          <p:cNvPicPr/>
          <p:nvPr/>
        </p:nvPicPr>
        <p:blipFill>
          <a:blip r:embed="rId1"/>
          <a:stretch/>
        </p:blipFill>
        <p:spPr>
          <a:xfrm>
            <a:off x="1857240" y="1071720"/>
            <a:ext cx="5786640" cy="38574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7"/>
          <p:cNvSpPr txBox="1"/>
          <p:nvPr/>
        </p:nvSpPr>
        <p:spPr>
          <a:xfrm>
            <a:off x="250920" y="189000"/>
            <a:ext cx="122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991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28760" y="5072040"/>
            <a:ext cx="83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 флаг Российской Федерации  восходит к флагу Пет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нимается на государственных зданиях и в дни государственных празд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763640" y="189000"/>
            <a:ext cx="59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История флаг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712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Значение цветов флага Росси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белый цвет означает мир, чистоту, совершенств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синий – цвет веры и верности, постоян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красный цвет символизирует энергию, силу, кровь, пролитую за Отечес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 этому флагу и стали повсеместно узнавать мощное Российское государство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Дата 3"/>
          <p:cNvSpPr/>
          <p:nvPr/>
        </p:nvSpPr>
        <p:spPr>
          <a:xfrm>
            <a:off x="428760" y="6072120"/>
            <a:ext cx="2133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Шатилова_Кононова</dc:creator>
  <dc:description/>
  <dc:language>en-US</dc:language>
  <cp:lastModifiedBy>ЛАРИСА</cp:lastModifiedBy>
  <cp:lastPrinted>1997-01-19T19:09:28Z</cp:lastPrinted>
  <dcterms:modified xsi:type="dcterms:W3CDTF">2012-07-24T13:11:42Z</dcterms:modified>
  <cp:revision>116</cp:revision>
  <dc:subject>Россия- наша Родина</dc:subject>
  <dc:title>Материалы для 1 урока</dc:title>
</cp:coreProperties>
</file>